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B025-8358-4CB9-81FA-DA464D35B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BE3F-240A-40AA-A9E4-6703D365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4716-1A8A-431D-BFD8-E4A85D22E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B5BE-563A-4F1F-B2D6-312FD49B1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F7240-65D3-4240-A18D-D8864D05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DAAA4-447F-43B1-A008-4B059121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7094E-D67C-41D0-81A3-960567B1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31E9D-36FF-4A86-9F81-33376BC3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1DE44-7AEF-4F57-8A22-E3D6DF54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CD65A-2F45-49D0-8EDF-F8322E3B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355E7-DAB0-4837-B61D-24B1E900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5F1F-C60A-4083-92B0-E81EF884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C4C68-FA2E-49C4-979B-9B931D81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83BE7-6133-4366-90C8-06AF4775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BF262-8A41-4099-BEB5-C780C00D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9DCE9-A8BA-44ED-ABE9-7C2A5A30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189F8-BA8D-439C-A582-282D354DA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AC622-3B5A-4A4C-95D5-449772FE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D77B0-A051-4B2A-8E79-0A6ABB39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E4536-22D8-4491-9A00-616F2546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BBD9B-B2E9-47D6-8EC2-7947F5D3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93D9D-D0D5-4CE3-A5C3-317C4CF0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B575-447A-416C-879F-6530A982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7BFAE-8BDC-437C-A590-776AE777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79B20-05E8-4ECF-941C-65CA69A7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23B17-EAB1-4164-A3EA-046DFF96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0978A-3F32-4BDF-BA32-BDAE9C97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20DC1-B0A0-400F-BCC0-587292BA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AFA87-A704-4C26-B8C6-09EF4A2C1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C42C2-B6D1-4F00-A4BD-7977F52E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A04E28-987A-4225-9BE0-1202E35A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F386D5-E91A-4A89-83A1-C5022149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422FB1-0FBF-4DED-BC47-C0AA88C6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E7A0-BAC5-4039-9F3E-5CBB70D6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03EA57-0038-4AFC-B912-1C83384F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07E059-DBFB-413F-B5F2-A093F7C6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2864B2-41A5-4278-8AA1-C0E1269A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806B8B-5B2B-4458-8896-FC00515B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B8D3D6-15D9-4572-B047-E1AF8895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5EFD8E-D569-49E1-B459-53E81F67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DCC399-1D7F-46C2-AF3B-14695868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17C844-C8D4-4248-813D-70992833D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313DF0-7E89-474A-B75F-BDF8C480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AB87-7152-44C9-97BF-0A4B25F3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94FA-DAC8-42E7-BF7B-5FABE6A7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A5E8-B3BA-4C59-B10D-CF6D1331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FB2D-7977-48A2-9852-C6FADA14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8DB2-0ED9-45E5-9122-AD581F0A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966F-0832-479C-B2DA-264D36E1F491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3D72-B148-4AF9-93FB-8D9BA8445064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3219-18B6-40CA-AED0-D6C29F852BE5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28AB-2057-40F6-BA5C-20E9A153C590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Emma Pric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Jae Kim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Ben Sh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Caroline Sim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arometer: Device used to measure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atmospheric pressur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556200" indent="-2372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tmospheric pressure: collisions of air molecules with objects. Decreases as altitude rises b/c density decrease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556200" indent="-2372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In a barometer, measured column of Hg is supported by air molecules colliding with surface Hg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nometer: Device used to measure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boiling poi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556200" indent="-2372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Boiling point: when particles are heated enough such that they have enough kinetic energy to vaporiz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556200" indent="-2372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s vapor collects in tube, Hg rises in a measured colum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73" name="Title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en a liquid heats, some of the particles at the liquid’s surface overcome the forces that keep them in liquid form, and escape as a ga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en this happens, the kinetic energy of the particles in the liquid increases and the overall temperature of the substance increas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When a liquid is heated to a temperature at which particles throughout the liquid have enough kinetic energy to vaporize, the liquid begins to boil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Title 2" descr=""/>
          <p:cNvPicPr/>
          <p:nvPr/>
        </p:nvPicPr>
        <p:blipFill>
          <a:blip r:embed="rId1"/>
          <a:stretch/>
        </p:blipFill>
        <p:spPr>
          <a:xfrm>
            <a:off x="255600" y="146160"/>
            <a:ext cx="843768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iquid boils when its vapor pressure is equal to the external pressur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s external pressure increases, boiling point increas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s external pressure decreases, boiling point decreas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t higher altitudes, pressure is lower, so the boiling point is low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Title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55360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ormal boiling point is the pressure of a liquid at 101.3 KP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ample: the normal boiling point of water is 100 degrees Celsiu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2:58:21Z</dcterms:created>
  <dc:creator>14csimon</dc:creator>
  <dc:description/>
  <dc:language>en-US</dc:language>
  <cp:lastModifiedBy>14csimon</cp:lastModifiedBy>
  <dcterms:modified xsi:type="dcterms:W3CDTF">2012-04-26T12:59:43Z</dcterms:modified>
  <cp:revision>3</cp:revision>
  <dc:subject/>
  <dc:title>Chapter 13 Objectives #13-16</dc:title>
</cp:coreProperties>
</file>